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254-2091-4B2C-8C04-E2A45FDE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3F0-FD93-49FE-9CCA-54A21B87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D97-007C-45B5-B578-81FF30A1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431-BDD7-4388-803A-53C76C32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DFA-09C1-441E-A383-039998D4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B76-EFAB-4B0F-A7B4-E3D63AAF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764-15C6-4948-A680-55C25390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554-3BA1-43F1-8951-6A8BE7E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BCC-6DAC-45E0-974E-3A7B86B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461-2073-4538-9DF4-532041DB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7DB-BEF5-422D-B12E-959FCF4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424-7E95-424E-BCE8-D38B119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DBC4-60BD-4186-8C58-A3E7232F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oes a shooting routine effect how you shoot a free th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olly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 predict that when the basketball girls shoot their free throws and use their routine they will have higher percents rather than shooting free throws with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5 basketball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asketbal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dependent: Shooting free throws with routine VS. no rout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ependent: Percent of sho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Have girls shoot 5 free throws with their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Have girls shoot 5 free throws without their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out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rr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rah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3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0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Keen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mm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0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stina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/5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0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erc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ith R.: 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ithout R.: 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Thanks to Emma, Keena, Sara, Tarra, and Cristina for participating in my proj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7772400" cy="39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40:55Z</dcterms:created>
  <dc:creator>STERLING  USD376</dc:creator>
  <dc:description/>
  <dc:language>en-US</dc:language>
  <cp:lastModifiedBy>STERLING USD376</cp:lastModifiedBy>
  <dcterms:modified xsi:type="dcterms:W3CDTF">2011-03-22T19:53:16Z</dcterms:modified>
  <cp:revision>7</cp:revision>
  <dc:subject/>
  <dc:title>Does a shooting routine really effect how you shoot?</dc:title>
</cp:coreProperties>
</file>